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BD1-9C1D-491B-BD96-C1E8B3BD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33C-5053-424C-80DC-87E3566C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5AA-0344-443A-BDCD-0E0DD4AF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E3D-7AF1-4D88-9B6A-70F86384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688-4BE7-496A-8EC9-FADF8BE2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A5C-31C8-494E-9C93-BC1ABDF5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938-8676-4EAA-9BB3-24AF928B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E98-F13B-4AF2-8856-58FF8BC8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D82-9C92-43DB-B06C-EF6B4423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535-EF37-4643-9ADA-7AB8912B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66B-CF74-446E-842D-9459BE6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C8D-EBA4-4C1A-9F32-A4BF253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6F82-F03A-4C87-AB63-F98CD9B28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AD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2356920"/>
            <a:ext cx="77868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98989"/>
                </a:solidFill>
                <a:latin typeface="Calibri"/>
              </a:rPr>
              <a:t>Set 1 Initiative : Ministry for Public Water Ut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98989"/>
                </a:solidFill>
                <a:latin typeface="Calibri"/>
              </a:rPr>
              <a:t>Create a Task Force – Health/Finance/Home Affairs/Community Leader represent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AD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2 Water Policy (Princi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3 Consultation ( Stakehold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Frag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AD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RM: Challe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Limited Wate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1</a:t>
            </a:r>
            <a:r>
              <a:rPr b="0" lang="en-AU" sz="3200" spc="-1" strike="noStrike">
                <a:solidFill>
                  <a:srgbClr val="00b050"/>
                </a:solidFill>
                <a:latin typeface="Calibri"/>
              </a:rPr>
              <a:t>: Increase water storage facilities (Tanks/Cisterns) to rainwater and underground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2: </a:t>
            </a:r>
            <a:r>
              <a:rPr b="0" lang="en-AU" sz="3200" spc="-1" strike="noStrike">
                <a:solidFill>
                  <a:srgbClr val="00b050"/>
                </a:solidFill>
                <a:latin typeface="Calibri"/>
              </a:rPr>
              <a:t>Desalination Solar powered plant (last resour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AU" sz="3200" spc="-1" strike="noStrike">
                <a:solidFill>
                  <a:srgbClr val="00b050"/>
                </a:solidFill>
                <a:latin typeface="Calibri"/>
              </a:rPr>
              <a:t>: Demand management – pricing/ration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AD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ance: Challe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Impose/finding source of finances – (Communities/Government/Local Government/Dono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1: Loan/subsidy (for rural-Urban) – Tanks , example 10% of the water tank cost $2,500.00 will be met by the receiver for connection, basement, pipe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AD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t...of Fin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2: Investment $120,000K AUD plus $2k for electricity (price/ratio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3:  Monitor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1:21:55Z</dcterms:created>
  <dc:creator>teriba</dc:creator>
  <dc:description/>
  <dc:language>en-US</dc:language>
  <cp:lastModifiedBy>teriba</cp:lastModifiedBy>
  <dcterms:modified xsi:type="dcterms:W3CDTF">2010-04-16T02:35:31Z</dcterms:modified>
  <cp:revision>5</cp:revision>
  <dc:subject/>
  <dc:title>ROAD MAP</dc:title>
</cp:coreProperties>
</file>